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2760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9760" cy="4149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5628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27600" y="875628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161599-FAD2-4507-9C26-A04D12D5D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9760" cy="4149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18: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9760" cy="4149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241-E0F3-4FDE-A6DA-F10950BD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F80-812D-412A-995E-8DC14662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4B7-D370-4DB9-9BE1-CF7DB4FF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16D-15B9-4CBF-903F-899324C4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1E1C-4380-4DD7-A642-7E8EBAA5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923A-6DEC-4537-9A45-7A08774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48B2-810D-4E0E-96EE-652C48D6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1879-6733-462D-8E2E-CCE6300D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8971-0329-4E29-9ED8-DE00EF36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3CDE-7F03-4AD9-BE33-CFB98496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5356-B907-4C87-B292-776AE3DE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1E6-4B9E-4316-9681-61D7281F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C589-C110-476F-AEC9-388D8320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036D-3BC0-46AF-8728-6271868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2CEF-A834-48B0-8121-CED2BEE1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5238-DC6C-4487-8323-1D46C1EB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71B-E9AB-4033-A569-562B43A5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524-9B14-4462-95A2-B88D4F04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E9F-6880-4814-A533-1DD0A0E0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423-383D-4416-8201-2E319F1D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7B7-EE17-49F6-9401-0C1A01AD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F03-F94E-4A67-BE8B-F7C90006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63D-2247-4A1C-A951-53469F42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06D-969E-4AFB-A247-1A916183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adeGothic L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adeGothic L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adeGothic L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Gothic LT 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adeGothic L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Gothic LT 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adeGothic L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67CC-3D3F-4F60-9B42-EB3C324CBFBA}" type="slidenum">
              <a:rPr b="0" lang="en-US" sz="1400" spc="-1" strike="noStrike">
                <a:solidFill>
                  <a:srgbClr val="000000"/>
                </a:solidFill>
                <a:latin typeface="TradeGothic L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adeGothic L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adeGothic L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adeGothic L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adeGothic L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Gothic LT 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adeGothic L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adeGothic LT Bol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adeGothic L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1F50-842A-4D5E-BAE6-39DBB41EB751}" type="slidenum">
              <a:rPr b="0" lang="en-US" sz="1400" spc="-1" strike="noStrike">
                <a:solidFill>
                  <a:srgbClr val="000000"/>
                </a:solidFill>
                <a:latin typeface="TradeGothic L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deGothic LT Bold"/>
              </a:rPr>
              <a:t>Style Translation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radeGothic LT Bold"/>
              </a:rPr>
              <a:t>for Human Motion</a:t>
            </a:r>
            <a:endParaRPr b="0" lang="en-US" sz="60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0" name=""/>
          <p:cNvSpPr/>
          <p:nvPr/>
        </p:nvSpPr>
        <p:spPr>
          <a:xfrm>
            <a:off x="5457960" y="52005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  <a:ea typeface="Arial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41008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radeGothic LT Bold"/>
              </a:rPr>
              <a:t>Eugene Hsu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radeGothic LT Bold"/>
              </a:rPr>
              <a:t>Kari Pulli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radeGothic LT Bold"/>
              </a:rPr>
              <a:t>Jovan Popovic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494320" y="1762200"/>
            <a:ext cx="3033720" cy="4340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tion Transform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16" name=""/>
          <p:cNvSpPr/>
          <p:nvPr/>
        </p:nvSpPr>
        <p:spPr>
          <a:xfrm>
            <a:off x="461880" y="4819680"/>
            <a:ext cx="4038840" cy="1282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1880" y="1663560"/>
            <a:ext cx="349416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918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Motion Warping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Witkin and Popovic 1995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Frequency Filtering 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Bruderlin and Williams 1995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Emotional Transforms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Amaya et al. 1996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762520" y="2147760"/>
            <a:ext cx="2495520" cy="3570120"/>
            <a:chOff x="5762520" y="2147760"/>
            <a:chExt cx="2495520" cy="3570120"/>
          </a:xfrm>
        </p:grpSpPr>
        <p:sp>
          <p:nvSpPr>
            <p:cNvPr id="220" name=""/>
            <p:cNvSpPr/>
            <p:nvPr/>
          </p:nvSpPr>
          <p:spPr>
            <a:xfrm>
              <a:off x="5762520" y="3644640"/>
              <a:ext cx="249552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adeGothic LT Bold"/>
                </a:rPr>
                <a:t>Timing, Amplitu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62520" y="2147760"/>
              <a:ext cx="2495520" cy="536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adeGothic LT Bold"/>
                </a:rPr>
                <a:t>Input Mo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62520" y="5181480"/>
              <a:ext cx="2495520" cy="53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adeGothic LT Bold"/>
                </a:rPr>
                <a:t>New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29360" y="2876400"/>
              <a:ext cx="0" cy="61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29360" y="4413240"/>
              <a:ext cx="0" cy="61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997360" y="2533680"/>
            <a:ext cx="228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4038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Examples implicitly define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desired translation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262480" y="2465280"/>
            <a:ext cx="2764080" cy="1388520"/>
            <a:chOff x="5262480" y="2465280"/>
            <a:chExt cx="2764080" cy="1388520"/>
          </a:xfrm>
        </p:grpSpPr>
        <p:sp>
          <p:nvSpPr>
            <p:cNvPr id="230" name=""/>
            <p:cNvSpPr/>
            <p:nvPr/>
          </p:nvSpPr>
          <p:spPr>
            <a:xfrm flipV="1" rot="5400000">
              <a:off x="6413400" y="1545120"/>
              <a:ext cx="461880" cy="23032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5400000">
              <a:off x="6414120" y="2236320"/>
              <a:ext cx="460440" cy="2764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62480" y="246528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adeGothic LT Bold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42600" y="3394080"/>
              <a:ext cx="120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adeGothic LT Bold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 flipV="1" rot="5400000">
            <a:off x="6413400" y="1545120"/>
            <a:ext cx="461880" cy="23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 rot="5400000">
            <a:off x="6414120" y="2236320"/>
            <a:ext cx="460440" cy="2764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62480" y="24652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42600" y="339408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How do you compute the correspo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4038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finds timing differences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by matching frames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62480" y="2430360"/>
            <a:ext cx="2764080" cy="1920960"/>
            <a:chOff x="5262480" y="2430360"/>
            <a:chExt cx="2764080" cy="1920960"/>
          </a:xfrm>
        </p:grpSpPr>
        <p:sp>
          <p:nvSpPr>
            <p:cNvPr id="242" name=""/>
            <p:cNvSpPr/>
            <p:nvPr/>
          </p:nvSpPr>
          <p:spPr>
            <a:xfrm flipV="1" rot="5400000">
              <a:off x="6413400" y="1545120"/>
              <a:ext cx="461880" cy="23032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 rot="5400000">
              <a:off x="6414120" y="2236320"/>
              <a:ext cx="460440" cy="2764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3400" y="243036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75640" y="243036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35720" y="243036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83360" y="335124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45240" y="335124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75640" y="335124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35720" y="335124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52960" y="243036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852640"/>
              <a:ext cx="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4800" y="2852640"/>
              <a:ext cx="23040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45240" y="2852640"/>
              <a:ext cx="11592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07120" y="2852640"/>
              <a:ext cx="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67560" y="2852640"/>
              <a:ext cx="11592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84800" y="3813120"/>
              <a:ext cx="460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94320" y="3813120"/>
              <a:ext cx="460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31120" y="3813120"/>
              <a:ext cx="4600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77080" y="3813120"/>
              <a:ext cx="460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51640" y="3813120"/>
              <a:ext cx="460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1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How do you compute the correspo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4038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Warp output motion to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strip timing differences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65" name=""/>
          <p:cNvSpPr/>
          <p:nvPr/>
        </p:nvSpPr>
        <p:spPr>
          <a:xfrm flipV="1" rot="5400000">
            <a:off x="6415200" y="1545120"/>
            <a:ext cx="461880" cy="230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 rot="5400000">
            <a:off x="6415920" y="2466720"/>
            <a:ext cx="460440" cy="2303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5200" y="24303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77080" y="24303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37520" y="24303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54760" y="33512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6640" y="33512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77080" y="33512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37520" y="33512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54760" y="24303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2436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8480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4524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0712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6756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54760" y="3813120"/>
            <a:ext cx="460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94320" y="3813120"/>
            <a:ext cx="460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16640" y="3813120"/>
            <a:ext cx="460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77080" y="3813120"/>
            <a:ext cx="460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37520" y="3813120"/>
            <a:ext cx="460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1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7920" y="1854360"/>
            <a:ext cx="3801960" cy="2841480"/>
            <a:chOff x="4687920" y="1854360"/>
            <a:chExt cx="3801960" cy="2841480"/>
          </a:xfrm>
        </p:grpSpPr>
        <p:sp>
          <p:nvSpPr>
            <p:cNvPr id="286" name=""/>
            <p:cNvSpPr/>
            <p:nvPr/>
          </p:nvSpPr>
          <p:spPr>
            <a:xfrm>
              <a:off x="4687920" y="1854360"/>
              <a:ext cx="3801960" cy="284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262480" y="2430360"/>
              <a:ext cx="2764080" cy="1920960"/>
              <a:chOff x="5262480" y="2430360"/>
              <a:chExt cx="2764080" cy="1920960"/>
            </a:xfrm>
          </p:grpSpPr>
          <p:sp>
            <p:nvSpPr>
              <p:cNvPr id="288" name=""/>
              <p:cNvSpPr/>
              <p:nvPr/>
            </p:nvSpPr>
            <p:spPr>
              <a:xfrm flipV="1" rot="5400000">
                <a:off x="6413400" y="1545120"/>
                <a:ext cx="461880" cy="2303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 rot="5400000">
                <a:off x="6414120" y="2236320"/>
                <a:ext cx="460440" cy="2764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13400" y="2430360"/>
                <a:ext cx="0" cy="53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75640" y="2430360"/>
                <a:ext cx="0" cy="53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35720" y="2430360"/>
                <a:ext cx="0" cy="53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183360" y="3351240"/>
                <a:ext cx="0" cy="53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45240" y="3351240"/>
                <a:ext cx="0" cy="53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75640" y="3351240"/>
                <a:ext cx="0" cy="53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35720" y="3351240"/>
                <a:ext cx="0" cy="53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52960" y="2430360"/>
                <a:ext cx="0" cy="5382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24360" y="2852640"/>
                <a:ext cx="0" cy="61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184800" y="2852640"/>
                <a:ext cx="230400" cy="61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45240" y="2852640"/>
                <a:ext cx="115920" cy="61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07120" y="2852640"/>
                <a:ext cx="0" cy="61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67560" y="2852640"/>
                <a:ext cx="115920" cy="61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84800" y="3813120"/>
                <a:ext cx="46044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94320" y="3813120"/>
                <a:ext cx="46044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31120" y="3813120"/>
                <a:ext cx="46008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77080" y="3813120"/>
                <a:ext cx="46044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451640" y="3813120"/>
                <a:ext cx="46044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1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How do you compute the correspo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4038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Store timings in frames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11" name=""/>
          <p:cNvSpPr/>
          <p:nvPr/>
        </p:nvSpPr>
        <p:spPr>
          <a:xfrm flipV="1" rot="5400000">
            <a:off x="6415200" y="1545120"/>
            <a:ext cx="461880" cy="2303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 rot="5400000">
            <a:off x="6415920" y="2466720"/>
            <a:ext cx="460440" cy="2303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15200" y="24303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77080" y="24303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37520" y="24303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4760" y="33512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16640" y="33512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77080" y="33512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37520" y="33512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54760" y="24303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2436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8480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4524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10712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67560" y="2852640"/>
            <a:ext cx="0" cy="614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494320" y="3813120"/>
            <a:ext cx="2303640" cy="538200"/>
            <a:chOff x="5494320" y="3813120"/>
            <a:chExt cx="2303640" cy="538200"/>
          </a:xfrm>
        </p:grpSpPr>
        <p:sp>
          <p:nvSpPr>
            <p:cNvPr id="327" name=""/>
            <p:cNvSpPr/>
            <p:nvPr/>
          </p:nvSpPr>
          <p:spPr>
            <a:xfrm>
              <a:off x="5954760" y="3813120"/>
              <a:ext cx="460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94320" y="3813120"/>
              <a:ext cx="460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16640" y="3813120"/>
              <a:ext cx="460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77080" y="3813120"/>
              <a:ext cx="460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37520" y="3813120"/>
              <a:ext cx="4604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1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3.88889E-006 -0.06713 E">
                                      <p:cBhvr>
                                        <p:cTn id="105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How do you compute the correspo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What is the model and how do you estima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40384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Estimate parameters of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a style translation model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494320" y="2430360"/>
            <a:ext cx="2303640" cy="1459080"/>
            <a:chOff x="5494320" y="2430360"/>
            <a:chExt cx="2303640" cy="1459080"/>
          </a:xfrm>
        </p:grpSpPr>
        <p:sp>
          <p:nvSpPr>
            <p:cNvPr id="336" name=""/>
            <p:cNvSpPr/>
            <p:nvPr/>
          </p:nvSpPr>
          <p:spPr>
            <a:xfrm flipV="1" rot="5400000">
              <a:off x="6415200" y="1545120"/>
              <a:ext cx="461880" cy="2303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5400000">
              <a:off x="6415920" y="2466720"/>
              <a:ext cx="460440" cy="230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15200" y="243036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77080" y="243036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37520" y="243036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54760" y="335124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16640" y="335124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77080" y="335124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37520" y="335124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54760" y="2430360"/>
              <a:ext cx="0" cy="53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24360" y="2852640"/>
              <a:ext cx="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84800" y="2852640"/>
              <a:ext cx="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5240" y="2852640"/>
              <a:ext cx="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07120" y="2852640"/>
              <a:ext cx="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67560" y="2852640"/>
              <a:ext cx="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494320" y="3351240"/>
              <a:ext cx="2303640" cy="538200"/>
              <a:chOff x="5494320" y="3351240"/>
              <a:chExt cx="2303640" cy="538200"/>
            </a:xfrm>
          </p:grpSpPr>
          <p:sp>
            <p:nvSpPr>
              <p:cNvPr id="352" name=""/>
              <p:cNvSpPr/>
              <p:nvPr/>
            </p:nvSpPr>
            <p:spPr>
              <a:xfrm>
                <a:off x="5954760" y="3351240"/>
                <a:ext cx="46044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494320" y="3351240"/>
                <a:ext cx="46044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416640" y="3351240"/>
                <a:ext cx="46044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77080" y="3351240"/>
                <a:ext cx="46044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37520" y="3351240"/>
                <a:ext cx="460440" cy="53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radeGothic LT Bold"/>
                    <a:ea typeface="Arial"/>
                  </a:rPr>
                  <a:t>1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6108840" y="2584440"/>
            <a:ext cx="1074600" cy="10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V="1" rot="5400000">
            <a:off x="7872840" y="2886840"/>
            <a:ext cx="462240" cy="463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How do you compute the correspo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What is the model and how do you estima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738160"/>
            <a:ext cx="4038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Take a frame of input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62" name=""/>
          <p:cNvSpPr/>
          <p:nvPr/>
        </p:nvSpPr>
        <p:spPr>
          <a:xfrm flipV="1" rot="5400000">
            <a:off x="4917960" y="2887560"/>
            <a:ext cx="462240" cy="462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 rot="5400000">
            <a:off x="7875720" y="2889720"/>
            <a:ext cx="461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 rot="5400000">
            <a:off x="7869960" y="2886840"/>
            <a:ext cx="462240" cy="46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83480" y="2698920"/>
            <a:ext cx="844560" cy="84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 rot="5400000">
            <a:off x="6414840" y="2887560"/>
            <a:ext cx="462240" cy="46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 rot="5400000">
            <a:off x="6414840" y="2887560"/>
            <a:ext cx="462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10160" y="1547640"/>
            <a:ext cx="40384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Run it through th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03680" y="3879720"/>
            <a:ext cx="40388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Apply ti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08840" y="2584440"/>
            <a:ext cx="1074600" cy="10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0046 L 0.16372 0.00046 E">
                                      <p:cBhvr>
                                        <p:cTn id="135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46 L 0.15972 0.00046 E">
                                      <p:cBhvr>
                                        <p:cTn id="138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46 L 0.15972 0.00046 E">
                                      <p:cBhvr>
                                        <p:cTn id="140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972 0.00046 L 0.15972 0.06782 E">
                                      <p:cBhvr>
                                        <p:cTn id="144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046 L 0.02535 0.00046 E">
                                      <p:cBhvr>
                                        <p:cTn id="146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46 L -0.02466 0.00046 E">
                                      <p:cBhvr>
                                        <p:cTn id="148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How do you compute the correspo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What is the model and how do you estima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36880" y="1623960"/>
            <a:ext cx="92376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65440" y="1623960"/>
            <a:ext cx="92376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95440" y="1623960"/>
            <a:ext cx="92376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08320" y="1623960"/>
            <a:ext cx="92412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80120" y="1623960"/>
            <a:ext cx="92376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1560" y="1623960"/>
            <a:ext cx="92412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23000" y="1623960"/>
            <a:ext cx="92412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08120" y="2314440"/>
            <a:ext cx="695160" cy="1388880"/>
            <a:chOff x="708120" y="2314440"/>
            <a:chExt cx="695160" cy="1388880"/>
          </a:xfrm>
        </p:grpSpPr>
        <p:sp>
          <p:nvSpPr>
            <p:cNvPr id="381" name=""/>
            <p:cNvSpPr/>
            <p:nvPr/>
          </p:nvSpPr>
          <p:spPr>
            <a:xfrm flipV="1">
              <a:off x="708120" y="2430360"/>
              <a:ext cx="231840" cy="1157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1440" y="2314440"/>
              <a:ext cx="231840" cy="138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29040" y="2319480"/>
            <a:ext cx="728640" cy="1379520"/>
            <a:chOff x="3029040" y="2319480"/>
            <a:chExt cx="728640" cy="1379520"/>
          </a:xfrm>
        </p:grpSpPr>
        <p:sp>
          <p:nvSpPr>
            <p:cNvPr id="384" name=""/>
            <p:cNvSpPr/>
            <p:nvPr/>
          </p:nvSpPr>
          <p:spPr>
            <a:xfrm flipV="1">
              <a:off x="3046320" y="2433240"/>
              <a:ext cx="231840" cy="11509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507840" y="2319480"/>
              <a:ext cx="228600" cy="1379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29040" y="31244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29040" y="28940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29040" y="266400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89480" y="323856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89480" y="300852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89480" y="28940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89480" y="266400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29040" y="335448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000" y="3468600"/>
              <a:ext cx="30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240000" y="3124440"/>
              <a:ext cx="30672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240000" y="2951280"/>
              <a:ext cx="30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40000" y="2778120"/>
              <a:ext cx="30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3240000" y="2490840"/>
              <a:ext cx="30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383080" y="2430000"/>
            <a:ext cx="731880" cy="1155960"/>
            <a:chOff x="5383080" y="2430000"/>
            <a:chExt cx="731880" cy="1155960"/>
          </a:xfrm>
        </p:grpSpPr>
        <p:sp>
          <p:nvSpPr>
            <p:cNvPr id="400" name=""/>
            <p:cNvSpPr/>
            <p:nvPr/>
          </p:nvSpPr>
          <p:spPr>
            <a:xfrm flipV="1">
              <a:off x="5400720" y="2429640"/>
              <a:ext cx="231480" cy="1155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863320" y="2429640"/>
              <a:ext cx="230760" cy="1155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83080" y="31240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83080" y="28918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3080" y="266076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44960" y="33552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4960" y="31230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44960" y="28918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44960" y="266076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83080" y="33552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94760" y="34707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94760" y="323964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94760" y="300852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94760" y="277668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94760" y="25455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740720" y="2664000"/>
            <a:ext cx="690480" cy="69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63720" y="3006720"/>
            <a:ext cx="730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26040" y="3006720"/>
            <a:ext cx="691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68920" y="3006720"/>
            <a:ext cx="690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974000" y="1777680"/>
            <a:ext cx="233280" cy="2419200"/>
            <a:chOff x="7974000" y="1777680"/>
            <a:chExt cx="233280" cy="2419200"/>
          </a:xfrm>
        </p:grpSpPr>
        <p:sp>
          <p:nvSpPr>
            <p:cNvPr id="420" name=""/>
            <p:cNvSpPr/>
            <p:nvPr/>
          </p:nvSpPr>
          <p:spPr>
            <a:xfrm flipV="1">
              <a:off x="7975440" y="1777320"/>
              <a:ext cx="231840" cy="230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974000" y="3966480"/>
              <a:ext cx="231840" cy="2300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91360" y="2162160"/>
              <a:ext cx="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91360" y="3505320"/>
              <a:ext cx="0" cy="34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How do you compute the correspond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What is the model and how do you estima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65440" y="1623960"/>
            <a:ext cx="92376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51560" y="1623960"/>
            <a:ext cx="92412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08120" y="2314440"/>
            <a:ext cx="695160" cy="1388880"/>
            <a:chOff x="708120" y="2314440"/>
            <a:chExt cx="695160" cy="1388880"/>
          </a:xfrm>
        </p:grpSpPr>
        <p:sp>
          <p:nvSpPr>
            <p:cNvPr id="429" name=""/>
            <p:cNvSpPr/>
            <p:nvPr/>
          </p:nvSpPr>
          <p:spPr>
            <a:xfrm flipV="1">
              <a:off x="708120" y="2430360"/>
              <a:ext cx="231840" cy="1157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171440" y="2314440"/>
              <a:ext cx="231840" cy="138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029040" y="2319480"/>
            <a:ext cx="728640" cy="1379520"/>
            <a:chOff x="3029040" y="2319480"/>
            <a:chExt cx="728640" cy="1379520"/>
          </a:xfrm>
        </p:grpSpPr>
        <p:sp>
          <p:nvSpPr>
            <p:cNvPr id="432" name=""/>
            <p:cNvSpPr/>
            <p:nvPr/>
          </p:nvSpPr>
          <p:spPr>
            <a:xfrm flipV="1">
              <a:off x="3046320" y="2433240"/>
              <a:ext cx="231840" cy="11509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507840" y="2319480"/>
              <a:ext cx="228600" cy="1379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29040" y="31244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29040" y="28940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29040" y="266400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89480" y="323856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89480" y="300852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89480" y="28940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89480" y="266400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29040" y="335448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40000" y="3468600"/>
              <a:ext cx="30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240000" y="3124440"/>
              <a:ext cx="30672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240000" y="2951280"/>
              <a:ext cx="30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40000" y="2778120"/>
              <a:ext cx="30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240000" y="2490840"/>
              <a:ext cx="30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383080" y="2430000"/>
            <a:ext cx="731880" cy="1155960"/>
            <a:chOff x="5383080" y="2430000"/>
            <a:chExt cx="731880" cy="1155960"/>
          </a:xfrm>
        </p:grpSpPr>
        <p:sp>
          <p:nvSpPr>
            <p:cNvPr id="448" name=""/>
            <p:cNvSpPr/>
            <p:nvPr/>
          </p:nvSpPr>
          <p:spPr>
            <a:xfrm flipV="1">
              <a:off x="5400720" y="2429640"/>
              <a:ext cx="231480" cy="1155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5863320" y="2429640"/>
              <a:ext cx="230760" cy="1155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83080" y="31240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83080" y="28918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83080" y="266076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4960" y="33552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44960" y="31230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44960" y="28918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44960" y="266076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83080" y="33552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94760" y="34707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94760" y="323964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94760" y="300852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94760" y="277668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94760" y="25455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7740720" y="2664000"/>
            <a:ext cx="690480" cy="69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63720" y="3006720"/>
            <a:ext cx="730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26040" y="3006720"/>
            <a:ext cx="691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68920" y="3006720"/>
            <a:ext cx="690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975440" y="1777320"/>
            <a:ext cx="231840" cy="230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974000" y="3966480"/>
            <a:ext cx="231840" cy="230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1360" y="2162160"/>
            <a:ext cx="0" cy="3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091360" y="3505320"/>
            <a:ext cx="0" cy="34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72" name=""/>
          <p:cNvSpPr/>
          <p:nvPr/>
        </p:nvSpPr>
        <p:spPr>
          <a:xfrm>
            <a:off x="4343400" y="2057400"/>
            <a:ext cx="30492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1828800"/>
            <a:ext cx="30492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386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576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339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98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1500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81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adeGothic LT Bold"/>
              </a:rPr>
              <a:t>Objective function fo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adeGothic LT Bold"/>
              </a:rPr>
              <a:t>Dynamic Time War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tyle is important for character animation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Creating motion in one style is a pain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Creating motion in more styles is more pain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486" name=""/>
          <p:cNvSpPr/>
          <p:nvPr/>
        </p:nvSpPr>
        <p:spPr>
          <a:xfrm>
            <a:off x="4343400" y="2057400"/>
            <a:ext cx="30492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81480" y="1828800"/>
            <a:ext cx="30492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6386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50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8769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339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098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81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495680" y="327636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334120" y="327636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 rot="5400000">
            <a:off x="4340160" y="3426120"/>
            <a:ext cx="461880" cy="23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 rot="5400000">
            <a:off x="4340880" y="4654440"/>
            <a:ext cx="460440" cy="2763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4495680" y="3429000"/>
            <a:ext cx="152280" cy="2304720"/>
          </a:xfrm>
          <a:custGeom>
            <a:avLst/>
            <a:gdLst/>
            <a:ahLst/>
            <a:rect l="l" t="t" r="r" b="b"/>
            <a:pathLst>
              <a:path w="181" h="557">
                <a:moveTo>
                  <a:pt x="101" y="0"/>
                </a:moveTo>
                <a:cubicBezTo>
                  <a:pt x="141" y="40"/>
                  <a:pt x="181" y="81"/>
                  <a:pt x="173" y="121"/>
                </a:cubicBezTo>
                <a:cubicBezTo>
                  <a:pt x="165" y="161"/>
                  <a:pt x="56" y="206"/>
                  <a:pt x="52" y="242"/>
                </a:cubicBezTo>
                <a:cubicBezTo>
                  <a:pt x="48" y="278"/>
                  <a:pt x="157" y="311"/>
                  <a:pt x="149" y="339"/>
                </a:cubicBezTo>
                <a:cubicBezTo>
                  <a:pt x="141" y="367"/>
                  <a:pt x="8" y="388"/>
                  <a:pt x="4" y="412"/>
                </a:cubicBezTo>
                <a:cubicBezTo>
                  <a:pt x="0" y="436"/>
                  <a:pt x="109" y="460"/>
                  <a:pt x="125" y="484"/>
                </a:cubicBezTo>
                <a:cubicBezTo>
                  <a:pt x="141" y="508"/>
                  <a:pt x="105" y="545"/>
                  <a:pt x="101" y="5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4489200" y="4662360"/>
            <a:ext cx="165240" cy="2765520"/>
          </a:xfrm>
          <a:custGeom>
            <a:avLst/>
            <a:gdLst/>
            <a:ahLst/>
            <a:rect l="l" t="t" r="r" b="b"/>
            <a:pathLst>
              <a:path w="213" h="846">
                <a:moveTo>
                  <a:pt x="80" y="0"/>
                </a:moveTo>
                <a:cubicBezTo>
                  <a:pt x="146" y="24"/>
                  <a:pt x="213" y="48"/>
                  <a:pt x="201" y="72"/>
                </a:cubicBezTo>
                <a:cubicBezTo>
                  <a:pt x="189" y="96"/>
                  <a:pt x="16" y="105"/>
                  <a:pt x="8" y="145"/>
                </a:cubicBezTo>
                <a:cubicBezTo>
                  <a:pt x="0" y="185"/>
                  <a:pt x="141" y="258"/>
                  <a:pt x="153" y="314"/>
                </a:cubicBezTo>
                <a:cubicBezTo>
                  <a:pt x="165" y="370"/>
                  <a:pt x="76" y="435"/>
                  <a:pt x="80" y="483"/>
                </a:cubicBezTo>
                <a:cubicBezTo>
                  <a:pt x="84" y="531"/>
                  <a:pt x="177" y="568"/>
                  <a:pt x="177" y="604"/>
                </a:cubicBezTo>
                <a:cubicBezTo>
                  <a:pt x="177" y="640"/>
                  <a:pt x="84" y="673"/>
                  <a:pt x="80" y="701"/>
                </a:cubicBezTo>
                <a:cubicBezTo>
                  <a:pt x="76" y="729"/>
                  <a:pt x="149" y="750"/>
                  <a:pt x="153" y="774"/>
                </a:cubicBezTo>
                <a:cubicBezTo>
                  <a:pt x="157" y="798"/>
                  <a:pt x="130" y="822"/>
                  <a:pt x="104" y="84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34016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0204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6248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7972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49680" y="57690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57690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32440" y="57690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494320" y="57690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11560" y="57704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9640" y="43131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24360" y="431316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89240" y="57704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4760" y="57704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49680" y="4614840"/>
            <a:ext cx="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10120" y="4543560"/>
            <a:ext cx="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0560" y="4576680"/>
            <a:ext cx="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30640" y="4624560"/>
            <a:ext cx="1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92880" y="4638600"/>
            <a:ext cx="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19640" y="6083280"/>
            <a:ext cx="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81520" y="6083280"/>
            <a:ext cx="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40160" y="6031080"/>
            <a:ext cx="1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6078600"/>
            <a:ext cx="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261040" y="6005520"/>
            <a:ext cx="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24360" y="6116760"/>
            <a:ext cx="1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29" name=""/>
          <p:cNvSpPr/>
          <p:nvPr/>
        </p:nvSpPr>
        <p:spPr>
          <a:xfrm>
            <a:off x="4343400" y="2057400"/>
            <a:ext cx="30492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81480" y="1828800"/>
            <a:ext cx="30492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386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576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339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71500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962520" y="327636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 rot="5400000">
            <a:off x="4340160" y="3426120"/>
            <a:ext cx="461880" cy="2303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 rot="5400000">
            <a:off x="4340880" y="3927240"/>
            <a:ext cx="460440" cy="2763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4016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0204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6248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110120" y="50418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50418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2040" y="50418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62480" y="50418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7972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49680" y="4735440"/>
            <a:ext cx="1440" cy="422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11560" y="4735440"/>
            <a:ext cx="230400" cy="422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4735440"/>
            <a:ext cx="115920" cy="422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32440" y="4735440"/>
            <a:ext cx="1440" cy="422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94320" y="4735440"/>
            <a:ext cx="115920" cy="422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1964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24360" y="431172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89240" y="50418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954760" y="50418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 rot="5400000">
            <a:off x="4340880" y="4654440"/>
            <a:ext cx="460440" cy="2763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649680" y="57690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57690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032440" y="57690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494320" y="576900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111560" y="57704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89240" y="57704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54760" y="5770440"/>
            <a:ext cx="0" cy="538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70" name=""/>
          <p:cNvSpPr/>
          <p:nvPr/>
        </p:nvSpPr>
        <p:spPr>
          <a:xfrm>
            <a:off x="4343400" y="2057400"/>
            <a:ext cx="30492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81480" y="1828800"/>
            <a:ext cx="30492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386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769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576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7339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19112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1500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adeGothic LT Bold"/>
              </a:rPr>
              <a:t>Objective accounts for spatial differenc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adeGothic LT Bold"/>
              </a:rPr>
              <a:t>using temporal adjus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584" name=""/>
          <p:cNvSpPr/>
          <p:nvPr/>
        </p:nvSpPr>
        <p:spPr>
          <a:xfrm>
            <a:off x="2209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2057400"/>
            <a:ext cx="30456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1828800"/>
            <a:ext cx="30456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97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56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6576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6002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1905120"/>
            <a:ext cx="160020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765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483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05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81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638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81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4864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248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24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934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4674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102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3152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077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153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771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4956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244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1532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,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adeGothic LT Bold"/>
              </a:rPr>
              <a:t>Add the ability to make spatial adjus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19" name=""/>
          <p:cNvSpPr/>
          <p:nvPr/>
        </p:nvSpPr>
        <p:spPr>
          <a:xfrm>
            <a:off x="2209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2057400"/>
            <a:ext cx="30456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20040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1828800"/>
            <a:ext cx="30456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197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956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895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576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238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002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1905120"/>
            <a:ext cx="160020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6483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638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81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248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324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10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4674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0102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3152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77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153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3244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1532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144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,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5720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adeGothic LT Bold"/>
              </a:rPr>
              <a:t>Scale vector a and offset vector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344680" y="327636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343320" y="327636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56" name=""/>
          <p:cNvSpPr/>
          <p:nvPr/>
        </p:nvSpPr>
        <p:spPr>
          <a:xfrm>
            <a:off x="2209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590920" y="2057400"/>
            <a:ext cx="30456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0040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1828800"/>
            <a:ext cx="30456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4197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4956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6002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057400" y="1905120"/>
            <a:ext cx="160020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6765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6483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05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81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638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81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4864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248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324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934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010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674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102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152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077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153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771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956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1532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44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,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adeGothic LT Bold"/>
              </a:rPr>
              <a:t>Approximated smooth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800680" y="327636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7605720" y="327492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90920" y="2057400"/>
            <a:ext cx="30456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0040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1828800"/>
            <a:ext cx="30456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956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6576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238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6002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160020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6765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6483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05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81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81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8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24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934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010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4674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0102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152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77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153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4771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4956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3244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1532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144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,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adeGothic LT Bold"/>
              </a:rPr>
              <a:t>Optimize by using coordinate des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rrespondence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28" name=""/>
          <p:cNvSpPr/>
          <p:nvPr/>
        </p:nvSpPr>
        <p:spPr>
          <a:xfrm>
            <a:off x="2209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90920" y="2057400"/>
            <a:ext cx="30456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20040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962520" y="1828800"/>
            <a:ext cx="30456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4197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956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95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576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238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0020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057400" y="1905120"/>
            <a:ext cx="160020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6765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6483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105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81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6386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814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2485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3244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934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010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467480" y="2057400"/>
            <a:ext cx="304920" cy="9144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1028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315200" y="1905120"/>
            <a:ext cx="609480" cy="12189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7732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153280" y="17524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477120" y="2057400"/>
            <a:ext cx="30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956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244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153280" y="129528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914400" y="2057400"/>
            <a:ext cx="30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  <a:ea typeface="Arial"/>
              </a:rPr>
              <a:t>W,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5720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adeGothic LT Bold"/>
              </a:rPr>
              <a:t>Iterative Motion War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763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What is the model and how do you estima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451560" y="1623960"/>
            <a:ext cx="924120" cy="27273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08120" y="2314440"/>
            <a:ext cx="695160" cy="1388880"/>
            <a:chOff x="708120" y="2314440"/>
            <a:chExt cx="695160" cy="1388880"/>
          </a:xfrm>
        </p:grpSpPr>
        <p:sp>
          <p:nvSpPr>
            <p:cNvPr id="766" name=""/>
            <p:cNvSpPr/>
            <p:nvPr/>
          </p:nvSpPr>
          <p:spPr>
            <a:xfrm flipV="1">
              <a:off x="708120" y="2430360"/>
              <a:ext cx="231840" cy="1157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1171440" y="2314440"/>
              <a:ext cx="231840" cy="138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3029040" y="2319480"/>
            <a:ext cx="728640" cy="1379520"/>
            <a:chOff x="3029040" y="2319480"/>
            <a:chExt cx="728640" cy="1379520"/>
          </a:xfrm>
        </p:grpSpPr>
        <p:sp>
          <p:nvSpPr>
            <p:cNvPr id="769" name=""/>
            <p:cNvSpPr/>
            <p:nvPr/>
          </p:nvSpPr>
          <p:spPr>
            <a:xfrm flipV="1">
              <a:off x="3046320" y="2433240"/>
              <a:ext cx="231840" cy="11509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3507840" y="2319480"/>
              <a:ext cx="228600" cy="1379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29040" y="31244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29040" y="28940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29040" y="266400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89480" y="323856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89480" y="300852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89480" y="28940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89480" y="266400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029040" y="335448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40000" y="3468600"/>
              <a:ext cx="30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240000" y="3124440"/>
              <a:ext cx="30672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240000" y="2951280"/>
              <a:ext cx="30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40000" y="2778120"/>
              <a:ext cx="30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240000" y="2490840"/>
              <a:ext cx="30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5383080" y="2430000"/>
            <a:ext cx="731880" cy="1155960"/>
            <a:chOff x="5383080" y="2430000"/>
            <a:chExt cx="731880" cy="1155960"/>
          </a:xfrm>
        </p:grpSpPr>
        <p:sp>
          <p:nvSpPr>
            <p:cNvPr id="785" name=""/>
            <p:cNvSpPr/>
            <p:nvPr/>
          </p:nvSpPr>
          <p:spPr>
            <a:xfrm flipV="1">
              <a:off x="5400720" y="2429640"/>
              <a:ext cx="231480" cy="1155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863320" y="2429640"/>
              <a:ext cx="230760" cy="1155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83080" y="31240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83080" y="28918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83080" y="266076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44960" y="33552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44960" y="31230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844960" y="28918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844960" y="266076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3080" y="33552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94760" y="34707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94760" y="323964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94760" y="300852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94760" y="277668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94760" y="25455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7740720" y="2664000"/>
            <a:ext cx="690480" cy="69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863720" y="3006720"/>
            <a:ext cx="730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226040" y="3006720"/>
            <a:ext cx="691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68920" y="3006720"/>
            <a:ext cx="690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7975440" y="1777320"/>
            <a:ext cx="231840" cy="230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7974000" y="3966480"/>
            <a:ext cx="231840" cy="230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091360" y="2162160"/>
            <a:ext cx="0" cy="3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91360" y="3505320"/>
            <a:ext cx="0" cy="34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09" name=""/>
          <p:cNvSpPr/>
          <p:nvPr/>
        </p:nvSpPr>
        <p:spPr>
          <a:xfrm flipV="1" rot="5400000">
            <a:off x="4111560" y="469800"/>
            <a:ext cx="923760" cy="460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 rot="5400000">
            <a:off x="4113360" y="2311920"/>
            <a:ext cx="920520" cy="460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111560" y="2238480"/>
            <a:ext cx="0" cy="1076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035680" y="2238480"/>
            <a:ext cx="0" cy="1076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956200" y="2238480"/>
            <a:ext cx="0" cy="1076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191040" y="4079880"/>
            <a:ext cx="0" cy="1076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114800" y="4079880"/>
            <a:ext cx="0" cy="1076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35680" y="4079880"/>
            <a:ext cx="0" cy="1076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956200" y="4079880"/>
            <a:ext cx="0" cy="1076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91040" y="2238480"/>
            <a:ext cx="0" cy="1076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730600" y="3083040"/>
            <a:ext cx="0" cy="1228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651120" y="3083040"/>
            <a:ext cx="0" cy="1228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572000" y="3083040"/>
            <a:ext cx="0" cy="1228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95760" y="3083040"/>
            <a:ext cx="0" cy="1228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416640" y="3083040"/>
            <a:ext cx="0" cy="1228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266920" y="4541760"/>
            <a:ext cx="4606200" cy="1076040"/>
            <a:chOff x="2266920" y="4541760"/>
            <a:chExt cx="4606200" cy="1076040"/>
          </a:xfrm>
        </p:grpSpPr>
        <p:sp>
          <p:nvSpPr>
            <p:cNvPr id="825" name=""/>
            <p:cNvSpPr/>
            <p:nvPr/>
          </p:nvSpPr>
          <p:spPr>
            <a:xfrm>
              <a:off x="3187440" y="4541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266920" y="4541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111200" y="4541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1720" y="4541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52600" y="4541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y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2266920" y="1085760"/>
            <a:ext cx="4606200" cy="1076040"/>
            <a:chOff x="2266920" y="1085760"/>
            <a:chExt cx="4606200" cy="1076040"/>
          </a:xfrm>
        </p:grpSpPr>
        <p:sp>
          <p:nvSpPr>
            <p:cNvPr id="831" name=""/>
            <p:cNvSpPr/>
            <p:nvPr/>
          </p:nvSpPr>
          <p:spPr>
            <a:xfrm>
              <a:off x="3187440" y="1085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u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66920" y="1085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u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11200" y="1085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u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31720" y="1085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u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952600" y="1085760"/>
              <a:ext cx="9205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u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radeGothic LT Bold"/>
                  <a:ea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Style Transl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8520" y="2139480"/>
            <a:ext cx="394344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Take motion in one style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47560" y="3048120"/>
            <a:ext cx="8045640" cy="1063440"/>
            <a:chOff x="547560" y="3048120"/>
            <a:chExt cx="8045640" cy="106344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47560" y="3048120"/>
              <a:ext cx="3645000" cy="10634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951440" y="3048120"/>
              <a:ext cx="3641760" cy="10634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00" name=""/>
            <p:cNvSpPr/>
            <p:nvPr/>
          </p:nvSpPr>
          <p:spPr>
            <a:xfrm>
              <a:off x="4344840" y="3579840"/>
              <a:ext cx="454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799160" y="2139840"/>
            <a:ext cx="39430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change to another sty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72120" y="2139840"/>
            <a:ext cx="603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022720"/>
            <a:ext cx="9144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Our method learns the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translations from ex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61880" y="411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Linear regression?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Doesn’t capture relevant translations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Ignores temporal nature of mappings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2590920" y="1676520"/>
          <a:ext cx="3962160" cy="1981080"/>
        </p:xfrm>
        <a:graphic>
          <a:graphicData uri="http://schemas.openxmlformats.org/drawingml/2006/table">
            <a:tbl>
              <a:tblPr/>
              <a:tblGrid>
                <a:gridCol w="1092240"/>
                <a:gridCol w="583920"/>
                <a:gridCol w="2286000"/>
              </a:tblGrid>
              <a:tr h="16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+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A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 + Bu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y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C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 + Du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9" name=""/>
          <p:cNvSpPr/>
          <p:nvPr/>
        </p:nvSpPr>
        <p:spPr>
          <a:xfrm>
            <a:off x="2575080" y="1662120"/>
            <a:ext cx="3993840" cy="1996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538280" y="1778040"/>
            <a:ext cx="6067440" cy="76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86080" y="2814480"/>
            <a:ext cx="146052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deGothic LT Bold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61880" y="411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Add a state variabl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radeGothic LT Bold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This captures relevant translations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Reflects temporal nature of data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2590920" y="1676520"/>
          <a:ext cx="3962160" cy="1981080"/>
        </p:xfrm>
        <a:graphic>
          <a:graphicData uri="http://schemas.openxmlformats.org/drawingml/2006/table">
            <a:tbl>
              <a:tblPr/>
              <a:tblGrid>
                <a:gridCol w="1092240"/>
                <a:gridCol w="583920"/>
                <a:gridCol w="2286000"/>
              </a:tblGrid>
              <a:tr h="16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+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A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 + Bu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y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C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 + Du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2575080" y="1662120"/>
            <a:ext cx="3993840" cy="1996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186080" y="2814480"/>
            <a:ext cx="146052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radeGothic LT Bold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61880" y="411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(multiple-input, multiple-output, state-space)</a:t>
            </a:r>
            <a:endParaRPr b="0" lang="en-US" sz="2400" spc="-1" strike="noStrike">
              <a:solidFill>
                <a:srgbClr val="000000"/>
              </a:solidFill>
              <a:latin typeface="TradeGothic LT Bol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deGothic LT Bold"/>
              </a:rPr>
              <a:t>Linear Time-Invariant System</a:t>
            </a:r>
            <a:endParaRPr b="0" lang="en-US" sz="3600" spc="-1" strike="noStrike">
              <a:solidFill>
                <a:srgbClr val="000000"/>
              </a:solidFill>
              <a:latin typeface="TradeGothic LT Bold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2590920" y="1676520"/>
          <a:ext cx="3962160" cy="1981080"/>
        </p:xfrm>
        <a:graphic>
          <a:graphicData uri="http://schemas.openxmlformats.org/drawingml/2006/table">
            <a:tbl>
              <a:tblPr/>
              <a:tblGrid>
                <a:gridCol w="1092240"/>
                <a:gridCol w="583920"/>
                <a:gridCol w="2286000"/>
              </a:tblGrid>
              <a:tr h="16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+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A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 + Bu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y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C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 + Du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"/>
          <p:cNvSpPr/>
          <p:nvPr/>
        </p:nvSpPr>
        <p:spPr>
          <a:xfrm>
            <a:off x="2575080" y="1662120"/>
            <a:ext cx="399384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Numerical Subspace State-Space 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ystem Identification (N4SID)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(Van Overschee and De Moor 96)</a:t>
            </a: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2590920" y="1676520"/>
          <a:ext cx="3962160" cy="1981080"/>
        </p:xfrm>
        <a:graphic>
          <a:graphicData uri="http://schemas.openxmlformats.org/drawingml/2006/table">
            <a:tbl>
              <a:tblPr/>
              <a:tblGrid>
                <a:gridCol w="1092240"/>
                <a:gridCol w="583920"/>
                <a:gridCol w="2286000"/>
              </a:tblGrid>
              <a:tr h="16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+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A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 + Bu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y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=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Cx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radeGothic LT Bold"/>
                        </a:rPr>
                        <a:t> + Du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TradeGothic LT Bold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Each joint is translated independently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Desired dependencies are drawn from input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56" name=""/>
          <p:cNvSpPr/>
          <p:nvPr/>
        </p:nvSpPr>
        <p:spPr>
          <a:xfrm>
            <a:off x="1422360" y="2622600"/>
            <a:ext cx="1650960" cy="38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422360" y="3083040"/>
            <a:ext cx="1650960" cy="38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422360" y="3544920"/>
            <a:ext cx="1650960" cy="38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K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422360" y="4005360"/>
            <a:ext cx="1650960" cy="38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lb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1560" y="2622600"/>
            <a:ext cx="88416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111560" y="3083040"/>
            <a:ext cx="88416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111560" y="3544920"/>
            <a:ext cx="88416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111560" y="4005360"/>
            <a:ext cx="88416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31080" y="2622600"/>
            <a:ext cx="1650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031080" y="3083040"/>
            <a:ext cx="1650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031080" y="3544920"/>
            <a:ext cx="1650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K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031080" y="4005360"/>
            <a:ext cx="1650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lb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rot="5400000">
            <a:off x="2151720" y="4428000"/>
            <a:ext cx="46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rot="5400000">
            <a:off x="6758640" y="4428000"/>
            <a:ext cx="46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22360" y="4811760"/>
            <a:ext cx="1650960" cy="38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049800" y="4849920"/>
            <a:ext cx="165132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111560" y="4811760"/>
            <a:ext cx="88416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rot="5400000">
            <a:off x="4456440" y="4428360"/>
            <a:ext cx="461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189240" y="281448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189240" y="327492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189240" y="373536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189240" y="419724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189240" y="500364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110200" y="281448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10200" y="327492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110200" y="373536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110200" y="419724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110200" y="5003640"/>
            <a:ext cx="806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885" name=""/>
          <p:cNvSpPr/>
          <p:nvPr/>
        </p:nvSpPr>
        <p:spPr>
          <a:xfrm>
            <a:off x="457200" y="4952880"/>
            <a:ext cx="8229600" cy="147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08120" y="2314440"/>
            <a:ext cx="695160" cy="1388880"/>
            <a:chOff x="708120" y="2314440"/>
            <a:chExt cx="695160" cy="1388880"/>
          </a:xfrm>
        </p:grpSpPr>
        <p:sp>
          <p:nvSpPr>
            <p:cNvPr id="887" name=""/>
            <p:cNvSpPr/>
            <p:nvPr/>
          </p:nvSpPr>
          <p:spPr>
            <a:xfrm flipV="1">
              <a:off x="708120" y="2430360"/>
              <a:ext cx="231840" cy="11570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171440" y="2314440"/>
              <a:ext cx="231840" cy="1388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3029040" y="2319480"/>
            <a:ext cx="728640" cy="1379520"/>
            <a:chOff x="3029040" y="2319480"/>
            <a:chExt cx="728640" cy="1379520"/>
          </a:xfrm>
        </p:grpSpPr>
        <p:sp>
          <p:nvSpPr>
            <p:cNvPr id="890" name=""/>
            <p:cNvSpPr/>
            <p:nvPr/>
          </p:nvSpPr>
          <p:spPr>
            <a:xfrm flipV="1">
              <a:off x="3046320" y="2433240"/>
              <a:ext cx="231840" cy="11509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507840" y="2319480"/>
              <a:ext cx="228600" cy="1379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029040" y="31244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029040" y="28940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029040" y="266400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89480" y="323856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89480" y="300852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89480" y="289404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89480" y="266400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29040" y="3354480"/>
              <a:ext cx="268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40000" y="3468600"/>
              <a:ext cx="30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3240000" y="3124440"/>
              <a:ext cx="30672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3240000" y="2951280"/>
              <a:ext cx="30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40000" y="2778120"/>
              <a:ext cx="30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240000" y="2490840"/>
              <a:ext cx="30672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383080" y="2430000"/>
            <a:ext cx="731880" cy="1155960"/>
            <a:chOff x="5383080" y="2430000"/>
            <a:chExt cx="731880" cy="1155960"/>
          </a:xfrm>
        </p:grpSpPr>
        <p:sp>
          <p:nvSpPr>
            <p:cNvPr id="906" name=""/>
            <p:cNvSpPr/>
            <p:nvPr/>
          </p:nvSpPr>
          <p:spPr>
            <a:xfrm flipV="1">
              <a:off x="5400720" y="2429640"/>
              <a:ext cx="231480" cy="1155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863320" y="2429640"/>
              <a:ext cx="230760" cy="1155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83080" y="31240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83080" y="28918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83080" y="266076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44960" y="33552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44960" y="31230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44960" y="289188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844960" y="266076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83080" y="3355200"/>
              <a:ext cx="27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94760" y="34707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94760" y="323964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94760" y="300852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94760" y="277668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594760" y="2545560"/>
              <a:ext cx="308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7740720" y="2664000"/>
            <a:ext cx="690480" cy="69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863720" y="3006720"/>
            <a:ext cx="730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26040" y="3006720"/>
            <a:ext cx="691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568920" y="3006720"/>
            <a:ext cx="690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7975440" y="1777320"/>
            <a:ext cx="231840" cy="230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7974000" y="3966480"/>
            <a:ext cx="231840" cy="230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091360" y="2162160"/>
            <a:ext cx="0" cy="3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8091360" y="3505320"/>
            <a:ext cx="0" cy="34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7647120" y="3505320"/>
            <a:ext cx="688680" cy="688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deGothic LT Bold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647120" y="3505320"/>
            <a:ext cx="688680" cy="688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deGothic LT Bol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Postprocessing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liding feet?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Classify footplants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and clean them up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33" name=""/>
          <p:cNvSpPr/>
          <p:nvPr/>
        </p:nvSpPr>
        <p:spPr>
          <a:xfrm>
            <a:off x="5032440" y="3505320"/>
            <a:ext cx="689040" cy="688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deGothic LT Bold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340320" y="3505320"/>
            <a:ext cx="689040" cy="688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adeGothic LT Bold"/>
              </a:rPr>
              <a:t>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838840" y="3849840"/>
            <a:ext cx="3841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145280" y="3849840"/>
            <a:ext cx="38412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378400" y="4273560"/>
            <a:ext cx="2611440" cy="230040"/>
          </a:xfrm>
          <a:custGeom>
            <a:avLst/>
            <a:gdLst/>
            <a:ahLst/>
            <a:rect l="l" t="t" r="r" b="b"/>
            <a:pathLst>
              <a:path w="2904" h="194">
                <a:moveTo>
                  <a:pt x="0" y="0"/>
                </a:moveTo>
                <a:lnTo>
                  <a:pt x="0" y="194"/>
                </a:lnTo>
                <a:lnTo>
                  <a:pt x="2904" y="194"/>
                </a:lnTo>
                <a:lnTo>
                  <a:pt x="29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544760" y="2890800"/>
            <a:ext cx="1908000" cy="1882800"/>
            <a:chOff x="1544760" y="2890800"/>
            <a:chExt cx="1908000" cy="1882800"/>
          </a:xfrm>
        </p:grpSpPr>
        <p:sp>
          <p:nvSpPr>
            <p:cNvPr id="939" name=""/>
            <p:cNvSpPr/>
            <p:nvPr/>
          </p:nvSpPr>
          <p:spPr>
            <a:xfrm>
              <a:off x="1576080" y="2890800"/>
              <a:ext cx="1842840" cy="184320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1544760" y="2930400"/>
              <a:ext cx="1177200" cy="1496880"/>
              <a:chOff x="1544760" y="2930400"/>
              <a:chExt cx="1177200" cy="1496880"/>
            </a:xfrm>
          </p:grpSpPr>
          <p:sp>
            <p:nvSpPr>
              <p:cNvPr id="941" name=""/>
              <p:cNvSpPr/>
              <p:nvPr/>
            </p:nvSpPr>
            <p:spPr>
              <a:xfrm>
                <a:off x="1660680" y="306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radeGothic LT Bold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005200" y="3274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radeGothic LT Bold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698840" y="33703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radeGothic LT Bold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544760" y="3676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radeGothic LT Bold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338560" y="3044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radeGothic LT Bold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891080" y="3676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radeGothic LT Bold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684440" y="3906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radeGothic LT Bold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082960" y="2930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radeGothic LT Bold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2152440" y="2890800"/>
              <a:ext cx="1266480" cy="1843200"/>
            </a:xfrm>
            <a:custGeom>
              <a:avLst/>
              <a:gdLst/>
              <a:ahLst/>
              <a:rect l="l" t="t" r="r" b="b"/>
              <a:pathLst>
                <a:path w="798" h="1161">
                  <a:moveTo>
                    <a:pt x="798" y="0"/>
                  </a:moveTo>
                  <a:lnTo>
                    <a:pt x="483" y="0"/>
                  </a:lnTo>
                  <a:lnTo>
                    <a:pt x="0" y="1161"/>
                  </a:lnTo>
                  <a:lnTo>
                    <a:pt x="798" y="1161"/>
                  </a:lnTo>
                  <a:lnTo>
                    <a:pt x="7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2424600" y="3044880"/>
              <a:ext cx="1028160" cy="1728720"/>
              <a:chOff x="2424600" y="3044880"/>
              <a:chExt cx="1028160" cy="1728720"/>
            </a:xfrm>
          </p:grpSpPr>
          <p:sp>
            <p:nvSpPr>
              <p:cNvPr id="951" name=""/>
              <p:cNvSpPr/>
              <p:nvPr/>
            </p:nvSpPr>
            <p:spPr>
              <a:xfrm>
                <a:off x="2808360" y="342900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adeGothic LT Bold"/>
                  </a:rPr>
                  <a:t>–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62440" y="304488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adeGothic LT Bold"/>
                  </a:rPr>
                  <a:t>–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02000" y="373536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adeGothic LT Bold"/>
                  </a:rPr>
                  <a:t>–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808360" y="385128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adeGothic LT Bold"/>
                  </a:rPr>
                  <a:t>–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00600" y="32749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adeGothic LT Bold"/>
                  </a:rPr>
                  <a:t>–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424600" y="415764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adeGothic LT Bold"/>
                  </a:rPr>
                  <a:t>–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754360" y="425304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adeGothic LT Bold"/>
                  </a:rPr>
                  <a:t>–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Incomplete examples?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Detect them and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let them pass through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59" name=""/>
          <p:cNvSpPr/>
          <p:nvPr/>
        </p:nvSpPr>
        <p:spPr>
          <a:xfrm>
            <a:off x="4687920" y="1432080"/>
            <a:ext cx="4070160" cy="52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1806480" y="663480"/>
            <a:ext cx="553104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radeGothic LT Bold"/>
              </a:rPr>
              <a:t>Resul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Locomo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61880" y="5043600"/>
            <a:ext cx="82296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Each style was defined by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about a minute of motion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63" name=""/>
          <p:cNvSpPr/>
          <p:nvPr/>
        </p:nvSpPr>
        <p:spPr>
          <a:xfrm>
            <a:off x="885960" y="2111400"/>
            <a:ext cx="1920600" cy="18032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Super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Sne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Li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Shuff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337440" y="2111400"/>
            <a:ext cx="1920600" cy="18032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611520" y="2111400"/>
            <a:ext cx="1920960" cy="18032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Hard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Sof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Stra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Soft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Hard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85960" y="394956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1520" y="39495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337440" y="394956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805120" y="2109960"/>
            <a:ext cx="80640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77800" y="1801800"/>
            <a:ext cx="7988400" cy="2765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805120" y="2108160"/>
            <a:ext cx="806400" cy="17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adeGothic LT Bold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32480" y="2108160"/>
            <a:ext cx="806400" cy="17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adeGothic LT Bold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1714680" y="1798560"/>
            <a:ext cx="5715000" cy="4287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3399" fill="hold"/>
                                        <p:tgtEl>
                                          <p:spTgt spid="9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7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7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9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tion Gener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371600"/>
            <a:ext cx="39625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Concatenation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.g., Kovar et al. 2002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Interpolation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.g., Rose et al. 1998 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tatistica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.g., Brand and Hertzmann 2000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Physical 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.g., Liu et al. 2005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deGothic LT Bold"/>
              </a:rPr>
              <a:t>These techniques</a:t>
            </a:r>
            <a:endParaRPr b="0" lang="en-US" sz="36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deGothic LT Bold"/>
              </a:rPr>
              <a:t>model the space of</a:t>
            </a:r>
            <a:endParaRPr b="0" lang="en-US" sz="36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deGothic LT Bold"/>
              </a:rPr>
              <a:t>good motions.</a:t>
            </a:r>
            <a:endParaRPr b="0" lang="en-US" sz="36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1714680" y="179856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67366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975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975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5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Character has 35 degrees of freedom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Motion is sampled at 120 frames per second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Building the translation models is slow. 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Using the translation models is fast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1714680" y="179856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47899" fill="hold"/>
                                        <p:tgtEl>
                                          <p:spTgt spid="9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979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979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6" dur="1" fill="hold"/>
                                        <p:tgtEl>
                                          <p:spTgt spid="9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Fighting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61880" y="5043600"/>
            <a:ext cx="82296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We captured a variety of moves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deGothic LT Bold"/>
              </a:rPr>
              <a:t>in weak and aggressive styles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83" name=""/>
          <p:cNvSpPr/>
          <p:nvPr/>
        </p:nvSpPr>
        <p:spPr>
          <a:xfrm>
            <a:off x="885960" y="2111400"/>
            <a:ext cx="1920600" cy="18032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Aggr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37440" y="2111400"/>
            <a:ext cx="1920600" cy="18032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611520" y="2111400"/>
            <a:ext cx="1920960" cy="1803240"/>
          </a:xfrm>
          <a:prstGeom prst="rect">
            <a:avLst/>
          </a:prstGeom>
          <a:solidFill>
            <a:srgbClr val="1e1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Left P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Right P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adeGothic LT Bold"/>
                <a:ea typeface="Arial"/>
              </a:rPr>
              <a:t>Right K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85960" y="394956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11520" y="39495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337440" y="394956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805120" y="2109960"/>
            <a:ext cx="80640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7800" y="1801800"/>
            <a:ext cx="7988400" cy="2765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805120" y="2108160"/>
            <a:ext cx="806400" cy="17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adeGothic LT Bold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532480" y="2108160"/>
            <a:ext cx="806400" cy="17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adeGothic LT Bold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1714680" y="179856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133" fill="hold"/>
                                        <p:tgtEl>
                                          <p:spTgt spid="9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99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99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7" dur="1" fill="hold"/>
                                        <p:tgtEl>
                                          <p:spTgt spid="9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1714680" y="1798560"/>
            <a:ext cx="5715000" cy="4286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adeGothic LT Bold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27166" fill="hold"/>
                                        <p:tgtEl>
                                          <p:spTgt spid="9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995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995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8" dur="1" fill="hold"/>
                                        <p:tgtEl>
                                          <p:spTgt spid="9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Creating motion in more styles is more pain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Creating motion in one style is a pain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tyle is important for character animation.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47640"/>
            <a:ext cx="40384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deGothic LT Bold"/>
              </a:rPr>
              <a:t>Ideas</a:t>
            </a:r>
            <a:endParaRPr b="0" lang="en-US" sz="36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Yeuhi Abe, Barbara Cutler,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Bill Freeman, Sommer Gentry,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Paul Green, Jan Kautz,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Zoran Popovic, Daniel Vlasic,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Anonymous Reviewers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Yeuhi Abe, Sylvain Paris,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Sara Su, Robert Wang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adeGothic LT Bold"/>
              </a:rPr>
              <a:t>Funding</a:t>
            </a:r>
            <a:endParaRPr b="0" lang="en-US" sz="3600" spc="-1" strike="noStrike">
              <a:solidFill>
                <a:srgbClr val="000000"/>
              </a:solidFill>
              <a:latin typeface="TradeGothic LT Bold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5072040" y="4111560"/>
            <a:ext cx="4032360" cy="223992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5416560" y="2511360"/>
            <a:ext cx="2496960" cy="18288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2255760" y="4145040"/>
            <a:ext cx="228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4038480"/>
            <a:ext cx="403848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403848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tion Gener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371600"/>
            <a:ext cx="39625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Concatenation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.g., Kovar et al. 2002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Interpolation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.g., Rose et al. 1998 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tatistical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.g., Brand and Hertzmann 2000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Physical 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e.g., Liu et al. 2005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66688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510552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1600200"/>
            <a:ext cx="274320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1981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22096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200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29718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4380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5200" y="266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19920" y="2057040"/>
            <a:ext cx="30456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553080" y="3048120"/>
            <a:ext cx="53352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086600" y="2742840"/>
            <a:ext cx="30492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048120"/>
            <a:ext cx="53352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2743200"/>
            <a:ext cx="22860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743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2819520"/>
            <a:ext cx="22860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94320" y="4043520"/>
            <a:ext cx="2741760" cy="213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46040" y="3583080"/>
            <a:ext cx="2303640" cy="17668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1346040" y="3583080"/>
            <a:ext cx="2303640" cy="1766880"/>
            <a:chOff x="1346040" y="3583080"/>
            <a:chExt cx="2303640" cy="1766880"/>
          </a:xfrm>
        </p:grpSpPr>
        <p:sp>
          <p:nvSpPr>
            <p:cNvPr id="133" name=""/>
            <p:cNvSpPr/>
            <p:nvPr/>
          </p:nvSpPr>
          <p:spPr>
            <a:xfrm>
              <a:off x="1346040" y="3583080"/>
              <a:ext cx="2303640" cy="17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752480" y="3894120"/>
              <a:ext cx="1460520" cy="1127160"/>
              <a:chOff x="1752480" y="3894120"/>
              <a:chExt cx="1460520" cy="1127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006640" y="3894120"/>
                <a:ext cx="127080" cy="125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52480" y="4081320"/>
                <a:ext cx="127080" cy="12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97080" y="4896000"/>
                <a:ext cx="127080" cy="125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41680" y="4708440"/>
                <a:ext cx="127080" cy="12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86280" y="4834080"/>
                <a:ext cx="126720" cy="123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95480" y="4457880"/>
                <a:ext cx="127080" cy="125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816200" y="3957120"/>
                <a:ext cx="253800" cy="187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260080" y="4770360"/>
                <a:ext cx="444600" cy="187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2705040" y="4519080"/>
                <a:ext cx="254160" cy="250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05040" y="4770360"/>
                <a:ext cx="444600" cy="125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959200" y="4519440"/>
                <a:ext cx="190440" cy="376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51240" y="4519440"/>
                <a:ext cx="126720" cy="125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14600" y="4583160"/>
                <a:ext cx="190440" cy="18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tion Gener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Realistic, desired style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2590560"/>
            <a:ext cx="40384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adeGothic LT Bold"/>
              </a:rPr>
              <a:t>Similar to input motion.</a:t>
            </a:r>
            <a:endParaRPr b="0" lang="en-US" sz="28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51" name=""/>
          <p:cNvSpPr/>
          <p:nvPr/>
        </p:nvSpPr>
        <p:spPr>
          <a:xfrm>
            <a:off x="266760" y="15238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Select a good motion … that meets de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2209680"/>
            <a:ext cx="144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7960" y="2209680"/>
            <a:ext cx="144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133720"/>
            <a:ext cx="3657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133720"/>
            <a:ext cx="3657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486400"/>
            <a:ext cx="4038480" cy="1066680"/>
            <a:chOff x="457200" y="5486400"/>
            <a:chExt cx="4038480" cy="1066680"/>
          </a:xfrm>
        </p:grpSpPr>
        <p:sp>
          <p:nvSpPr>
            <p:cNvPr id="157" name=""/>
            <p:cNvSpPr/>
            <p:nvPr/>
          </p:nvSpPr>
          <p:spPr>
            <a:xfrm>
              <a:off x="2514600" y="548640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5867280"/>
              <a:ext cx="4038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adeGothic LT Bold"/>
                </a:rPr>
                <a:t>Details lost in translatio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629400" y="31240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648320" y="5486400"/>
            <a:ext cx="4038480" cy="1066680"/>
            <a:chOff x="4648320" y="5486400"/>
            <a:chExt cx="4038480" cy="1066680"/>
          </a:xfrm>
        </p:grpSpPr>
        <p:sp>
          <p:nvSpPr>
            <p:cNvPr id="161" name=""/>
            <p:cNvSpPr/>
            <p:nvPr/>
          </p:nvSpPr>
          <p:spPr>
            <a:xfrm>
              <a:off x="6629400" y="548640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8320" y="5867280"/>
              <a:ext cx="4038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adeGothic LT Bold"/>
                </a:rPr>
                <a:t>Expensive optimiza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514600" y="31240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89520" y="3774960"/>
            <a:ext cx="3446280" cy="1409760"/>
            <a:chOff x="4889520" y="3774960"/>
            <a:chExt cx="3446280" cy="1409760"/>
          </a:xfrm>
        </p:grpSpPr>
        <p:grpSp>
          <p:nvGrpSpPr>
            <p:cNvPr id="165" name=""/>
            <p:cNvGrpSpPr/>
            <p:nvPr/>
          </p:nvGrpSpPr>
          <p:grpSpPr>
            <a:xfrm>
              <a:off x="6964200" y="3813120"/>
              <a:ext cx="1371600" cy="1371600"/>
              <a:chOff x="6964200" y="3813120"/>
              <a:chExt cx="137160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64200" y="3813120"/>
                <a:ext cx="1371600" cy="1371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0800000">
                <a:off x="6964200" y="4084200"/>
                <a:ext cx="1371600" cy="916200"/>
              </a:xfrm>
              <a:custGeom>
                <a:avLst/>
                <a:gdLst/>
                <a:ahLst/>
                <a:rect l="l" t="t" r="r" b="b"/>
                <a:pathLst>
                  <a:path w="1440" h="312">
                    <a:moveTo>
                      <a:pt x="0" y="144"/>
                    </a:moveTo>
                    <a:cubicBezTo>
                      <a:pt x="16" y="112"/>
                      <a:pt x="32" y="80"/>
                      <a:pt x="48" y="96"/>
                    </a:cubicBezTo>
                    <a:cubicBezTo>
                      <a:pt x="64" y="112"/>
                      <a:pt x="72" y="224"/>
                      <a:pt x="96" y="240"/>
                    </a:cubicBezTo>
                    <a:cubicBezTo>
                      <a:pt x="120" y="256"/>
                      <a:pt x="168" y="184"/>
                      <a:pt x="192" y="192"/>
                    </a:cubicBezTo>
                    <a:cubicBezTo>
                      <a:pt x="216" y="200"/>
                      <a:pt x="224" y="312"/>
                      <a:pt x="240" y="288"/>
                    </a:cubicBezTo>
                    <a:cubicBezTo>
                      <a:pt x="256" y="264"/>
                      <a:pt x="264" y="72"/>
                      <a:pt x="288" y="48"/>
                    </a:cubicBezTo>
                    <a:cubicBezTo>
                      <a:pt x="312" y="24"/>
                      <a:pt x="344" y="120"/>
                      <a:pt x="384" y="144"/>
                    </a:cubicBezTo>
                    <a:cubicBezTo>
                      <a:pt x="424" y="168"/>
                      <a:pt x="496" y="168"/>
                      <a:pt x="528" y="192"/>
                    </a:cubicBezTo>
                    <a:cubicBezTo>
                      <a:pt x="560" y="216"/>
                      <a:pt x="552" y="296"/>
                      <a:pt x="576" y="288"/>
                    </a:cubicBezTo>
                    <a:cubicBezTo>
                      <a:pt x="600" y="280"/>
                      <a:pt x="648" y="160"/>
                      <a:pt x="672" y="144"/>
                    </a:cubicBezTo>
                    <a:cubicBezTo>
                      <a:pt x="696" y="128"/>
                      <a:pt x="696" y="208"/>
                      <a:pt x="720" y="192"/>
                    </a:cubicBezTo>
                    <a:cubicBezTo>
                      <a:pt x="744" y="176"/>
                      <a:pt x="776" y="32"/>
                      <a:pt x="816" y="48"/>
                    </a:cubicBezTo>
                    <a:cubicBezTo>
                      <a:pt x="856" y="64"/>
                      <a:pt x="912" y="296"/>
                      <a:pt x="960" y="288"/>
                    </a:cubicBezTo>
                    <a:cubicBezTo>
                      <a:pt x="1008" y="280"/>
                      <a:pt x="1048" y="0"/>
                      <a:pt x="1104" y="0"/>
                    </a:cubicBezTo>
                    <a:cubicBezTo>
                      <a:pt x="1160" y="0"/>
                      <a:pt x="1248" y="272"/>
                      <a:pt x="1296" y="288"/>
                    </a:cubicBezTo>
                    <a:cubicBezTo>
                      <a:pt x="1344" y="304"/>
                      <a:pt x="1368" y="120"/>
                      <a:pt x="1392" y="96"/>
                    </a:cubicBezTo>
                    <a:cubicBezTo>
                      <a:pt x="1416" y="72"/>
                      <a:pt x="1432" y="136"/>
                      <a:pt x="1440" y="14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64200" y="3813120"/>
                <a:ext cx="1371600" cy="137160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889520" y="3809880"/>
              <a:ext cx="1371600" cy="1371600"/>
              <a:chOff x="4889520" y="3809880"/>
              <a:chExt cx="1371600" cy="1371600"/>
            </a:xfrm>
          </p:grpSpPr>
          <p:sp>
            <p:nvSpPr>
              <p:cNvPr id="170" name=""/>
              <p:cNvSpPr/>
              <p:nvPr/>
            </p:nvSpPr>
            <p:spPr>
              <a:xfrm>
                <a:off x="4889520" y="3809880"/>
                <a:ext cx="1371600" cy="1371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89520" y="4081320"/>
                <a:ext cx="1371600" cy="916200"/>
              </a:xfrm>
              <a:custGeom>
                <a:avLst/>
                <a:gdLst/>
                <a:ahLst/>
                <a:rect l="l" t="t" r="r" b="b"/>
                <a:pathLst>
                  <a:path w="1440" h="312">
                    <a:moveTo>
                      <a:pt x="0" y="144"/>
                    </a:moveTo>
                    <a:cubicBezTo>
                      <a:pt x="16" y="112"/>
                      <a:pt x="32" y="80"/>
                      <a:pt x="48" y="96"/>
                    </a:cubicBezTo>
                    <a:cubicBezTo>
                      <a:pt x="64" y="112"/>
                      <a:pt x="72" y="224"/>
                      <a:pt x="96" y="240"/>
                    </a:cubicBezTo>
                    <a:cubicBezTo>
                      <a:pt x="120" y="256"/>
                      <a:pt x="168" y="184"/>
                      <a:pt x="192" y="192"/>
                    </a:cubicBezTo>
                    <a:cubicBezTo>
                      <a:pt x="216" y="200"/>
                      <a:pt x="224" y="312"/>
                      <a:pt x="240" y="288"/>
                    </a:cubicBezTo>
                    <a:cubicBezTo>
                      <a:pt x="256" y="264"/>
                      <a:pt x="264" y="72"/>
                      <a:pt x="288" y="48"/>
                    </a:cubicBezTo>
                    <a:cubicBezTo>
                      <a:pt x="312" y="24"/>
                      <a:pt x="344" y="120"/>
                      <a:pt x="384" y="144"/>
                    </a:cubicBezTo>
                    <a:cubicBezTo>
                      <a:pt x="424" y="168"/>
                      <a:pt x="496" y="168"/>
                      <a:pt x="528" y="192"/>
                    </a:cubicBezTo>
                    <a:cubicBezTo>
                      <a:pt x="560" y="216"/>
                      <a:pt x="552" y="296"/>
                      <a:pt x="576" y="288"/>
                    </a:cubicBezTo>
                    <a:cubicBezTo>
                      <a:pt x="600" y="280"/>
                      <a:pt x="648" y="160"/>
                      <a:pt x="672" y="144"/>
                    </a:cubicBezTo>
                    <a:cubicBezTo>
                      <a:pt x="696" y="128"/>
                      <a:pt x="696" y="208"/>
                      <a:pt x="720" y="192"/>
                    </a:cubicBezTo>
                    <a:cubicBezTo>
                      <a:pt x="744" y="176"/>
                      <a:pt x="776" y="32"/>
                      <a:pt x="816" y="48"/>
                    </a:cubicBezTo>
                    <a:cubicBezTo>
                      <a:pt x="856" y="64"/>
                      <a:pt x="912" y="296"/>
                      <a:pt x="960" y="288"/>
                    </a:cubicBezTo>
                    <a:cubicBezTo>
                      <a:pt x="1008" y="280"/>
                      <a:pt x="1048" y="0"/>
                      <a:pt x="1104" y="0"/>
                    </a:cubicBezTo>
                    <a:cubicBezTo>
                      <a:pt x="1160" y="0"/>
                      <a:pt x="1248" y="272"/>
                      <a:pt x="1296" y="288"/>
                    </a:cubicBezTo>
                    <a:cubicBezTo>
                      <a:pt x="1344" y="304"/>
                      <a:pt x="1368" y="120"/>
                      <a:pt x="1392" y="96"/>
                    </a:cubicBezTo>
                    <a:cubicBezTo>
                      <a:pt x="1416" y="72"/>
                      <a:pt x="1432" y="136"/>
                      <a:pt x="1440" y="14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89520" y="3809880"/>
                <a:ext cx="1371600" cy="137160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6267600" y="39974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86680" y="377496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radeGothic LT Bold"/>
                  <a:ea typeface="Arial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362400" y="3236760"/>
            <a:ext cx="2438280" cy="18288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radeGothic LT Bold"/>
                <a:ea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379680" y="3236760"/>
            <a:ext cx="2382840" cy="1805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62400" y="3236760"/>
            <a:ext cx="2438280" cy="18288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radeGothic LT Bold"/>
                <a:ea typeface="Arial"/>
              </a:rPr>
              <a:t>×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3238560"/>
            <a:ext cx="2438640" cy="1828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760" y="15238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These techniques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differences between good mo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tion Transform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238560"/>
            <a:ext cx="182880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3848040"/>
            <a:ext cx="1828800" cy="612720"/>
          </a:xfrm>
          <a:custGeom>
            <a:avLst/>
            <a:gdLst/>
            <a:ahLst/>
            <a:rect l="l" t="t" r="r" b="b"/>
            <a:pathLst>
              <a:path w="1440" h="312">
                <a:moveTo>
                  <a:pt x="0" y="144"/>
                </a:moveTo>
                <a:cubicBezTo>
                  <a:pt x="16" y="112"/>
                  <a:pt x="32" y="80"/>
                  <a:pt x="48" y="96"/>
                </a:cubicBezTo>
                <a:cubicBezTo>
                  <a:pt x="64" y="112"/>
                  <a:pt x="72" y="224"/>
                  <a:pt x="96" y="240"/>
                </a:cubicBezTo>
                <a:cubicBezTo>
                  <a:pt x="120" y="256"/>
                  <a:pt x="168" y="184"/>
                  <a:pt x="192" y="192"/>
                </a:cubicBezTo>
                <a:cubicBezTo>
                  <a:pt x="216" y="200"/>
                  <a:pt x="224" y="312"/>
                  <a:pt x="240" y="288"/>
                </a:cubicBezTo>
                <a:cubicBezTo>
                  <a:pt x="256" y="264"/>
                  <a:pt x="264" y="72"/>
                  <a:pt x="288" y="48"/>
                </a:cubicBezTo>
                <a:cubicBezTo>
                  <a:pt x="312" y="24"/>
                  <a:pt x="344" y="120"/>
                  <a:pt x="384" y="144"/>
                </a:cubicBezTo>
                <a:cubicBezTo>
                  <a:pt x="424" y="168"/>
                  <a:pt x="496" y="168"/>
                  <a:pt x="528" y="192"/>
                </a:cubicBezTo>
                <a:cubicBezTo>
                  <a:pt x="560" y="216"/>
                  <a:pt x="552" y="296"/>
                  <a:pt x="576" y="288"/>
                </a:cubicBezTo>
                <a:cubicBezTo>
                  <a:pt x="600" y="280"/>
                  <a:pt x="648" y="160"/>
                  <a:pt x="672" y="144"/>
                </a:cubicBezTo>
                <a:cubicBezTo>
                  <a:pt x="696" y="128"/>
                  <a:pt x="696" y="208"/>
                  <a:pt x="720" y="192"/>
                </a:cubicBezTo>
                <a:cubicBezTo>
                  <a:pt x="744" y="176"/>
                  <a:pt x="776" y="32"/>
                  <a:pt x="816" y="48"/>
                </a:cubicBezTo>
                <a:cubicBezTo>
                  <a:pt x="856" y="64"/>
                  <a:pt x="912" y="296"/>
                  <a:pt x="960" y="288"/>
                </a:cubicBezTo>
                <a:cubicBezTo>
                  <a:pt x="1008" y="280"/>
                  <a:pt x="1048" y="0"/>
                  <a:pt x="1104" y="0"/>
                </a:cubicBezTo>
                <a:cubicBezTo>
                  <a:pt x="1160" y="0"/>
                  <a:pt x="1248" y="272"/>
                  <a:pt x="1296" y="288"/>
                </a:cubicBezTo>
                <a:cubicBezTo>
                  <a:pt x="1344" y="304"/>
                  <a:pt x="1368" y="120"/>
                  <a:pt x="1392" y="96"/>
                </a:cubicBezTo>
                <a:cubicBezTo>
                  <a:pt x="1416" y="72"/>
                  <a:pt x="1432" y="136"/>
                  <a:pt x="144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3238560"/>
            <a:ext cx="1828800" cy="1828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3238560"/>
            <a:ext cx="1828800" cy="1828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3600360"/>
            <a:ext cx="1828800" cy="1222560"/>
          </a:xfrm>
          <a:custGeom>
            <a:avLst/>
            <a:gdLst/>
            <a:ahLst/>
            <a:rect l="l" t="t" r="r" b="b"/>
            <a:pathLst>
              <a:path w="1440" h="312">
                <a:moveTo>
                  <a:pt x="0" y="144"/>
                </a:moveTo>
                <a:cubicBezTo>
                  <a:pt x="16" y="112"/>
                  <a:pt x="32" y="80"/>
                  <a:pt x="48" y="96"/>
                </a:cubicBezTo>
                <a:cubicBezTo>
                  <a:pt x="64" y="112"/>
                  <a:pt x="72" y="224"/>
                  <a:pt x="96" y="240"/>
                </a:cubicBezTo>
                <a:cubicBezTo>
                  <a:pt x="120" y="256"/>
                  <a:pt x="168" y="184"/>
                  <a:pt x="192" y="192"/>
                </a:cubicBezTo>
                <a:cubicBezTo>
                  <a:pt x="216" y="200"/>
                  <a:pt x="224" y="312"/>
                  <a:pt x="240" y="288"/>
                </a:cubicBezTo>
                <a:cubicBezTo>
                  <a:pt x="256" y="264"/>
                  <a:pt x="264" y="72"/>
                  <a:pt x="288" y="48"/>
                </a:cubicBezTo>
                <a:cubicBezTo>
                  <a:pt x="312" y="24"/>
                  <a:pt x="344" y="120"/>
                  <a:pt x="384" y="144"/>
                </a:cubicBezTo>
                <a:cubicBezTo>
                  <a:pt x="424" y="168"/>
                  <a:pt x="496" y="168"/>
                  <a:pt x="528" y="192"/>
                </a:cubicBezTo>
                <a:cubicBezTo>
                  <a:pt x="560" y="216"/>
                  <a:pt x="552" y="296"/>
                  <a:pt x="576" y="288"/>
                </a:cubicBezTo>
                <a:cubicBezTo>
                  <a:pt x="600" y="280"/>
                  <a:pt x="648" y="160"/>
                  <a:pt x="672" y="144"/>
                </a:cubicBezTo>
                <a:cubicBezTo>
                  <a:pt x="696" y="128"/>
                  <a:pt x="696" y="208"/>
                  <a:pt x="720" y="192"/>
                </a:cubicBezTo>
                <a:cubicBezTo>
                  <a:pt x="744" y="176"/>
                  <a:pt x="776" y="32"/>
                  <a:pt x="816" y="48"/>
                </a:cubicBezTo>
                <a:cubicBezTo>
                  <a:pt x="856" y="64"/>
                  <a:pt x="912" y="296"/>
                  <a:pt x="960" y="288"/>
                </a:cubicBezTo>
                <a:cubicBezTo>
                  <a:pt x="1008" y="280"/>
                  <a:pt x="1048" y="0"/>
                  <a:pt x="1104" y="0"/>
                </a:cubicBezTo>
                <a:cubicBezTo>
                  <a:pt x="1160" y="0"/>
                  <a:pt x="1248" y="272"/>
                  <a:pt x="1296" y="288"/>
                </a:cubicBezTo>
                <a:cubicBezTo>
                  <a:pt x="1344" y="304"/>
                  <a:pt x="1368" y="120"/>
                  <a:pt x="1392" y="96"/>
                </a:cubicBezTo>
                <a:cubicBezTo>
                  <a:pt x="1416" y="72"/>
                  <a:pt x="1432" y="136"/>
                  <a:pt x="144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3238560"/>
            <a:ext cx="1828800" cy="1828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415296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415296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9880" y="56386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Usually fast and capable of preserving det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044880"/>
            <a:ext cx="8153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494320" y="1762200"/>
            <a:ext cx="3033720" cy="4340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762200"/>
            <a:ext cx="4038480" cy="1282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tion Transform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94" name=""/>
          <p:cNvSpPr/>
          <p:nvPr/>
        </p:nvSpPr>
        <p:spPr>
          <a:xfrm>
            <a:off x="731880" y="1663560"/>
            <a:ext cx="349416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918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Motion Warping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Witkin and Popovic 1995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Frequency Filtering 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Bruderlin and Williams 1995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Emotional Transforms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Amaya et al. 1996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196" name=""/>
          <p:cNvSpPr/>
          <p:nvPr/>
        </p:nvSpPr>
        <p:spPr>
          <a:xfrm>
            <a:off x="5762520" y="3645000"/>
            <a:ext cx="2495520" cy="53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adeGothic LT Bold"/>
              </a:rPr>
              <a:t>Scale,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62520" y="2147760"/>
            <a:ext cx="2495520" cy="536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Input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62520" y="5181480"/>
            <a:ext cx="2495520" cy="536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adeGothic LT Bold"/>
              </a:rPr>
              <a:t>New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29360" y="2876400"/>
            <a:ext cx="0" cy="614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29360" y="4413240"/>
            <a:ext cx="0" cy="614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97360" y="2533680"/>
            <a:ext cx="228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1880" y="3282840"/>
            <a:ext cx="4038840" cy="1282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1880" y="1663560"/>
            <a:ext cx="349416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8918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Motion Warping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Witkin and Popovic 1995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Frequency Filtering 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Bruderlin and Williams 1995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adeGothic LT Bold"/>
              </a:rPr>
              <a:t>Emotional Transforms</a:t>
            </a:r>
            <a:endParaRPr b="0" lang="en-US" sz="3200" spc="-1" strike="noStrike">
              <a:solidFill>
                <a:srgbClr val="000000"/>
              </a:solidFill>
              <a:latin typeface="TradeGothic LT Bol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Amaya et al. 1996</a:t>
            </a:r>
            <a:endParaRPr b="0" lang="en-US" sz="2000" spc="-1" strike="noStrike">
              <a:solidFill>
                <a:srgbClr val="000000"/>
              </a:solidFill>
              <a:latin typeface="TradeGothic LT Bold"/>
            </a:endParaRPr>
          </a:p>
        </p:txBody>
      </p:sp>
      <p:sp>
        <p:nvSpPr>
          <p:cNvPr id="205" name=""/>
          <p:cNvSpPr/>
          <p:nvPr/>
        </p:nvSpPr>
        <p:spPr>
          <a:xfrm>
            <a:off x="5494320" y="1762200"/>
            <a:ext cx="3033720" cy="4340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eGothic LT Bold"/>
              </a:rPr>
              <a:t>Motion Transformation</a:t>
            </a:r>
            <a:endParaRPr b="0" lang="en-US" sz="4400" spc="-1" strike="noStrike">
              <a:solidFill>
                <a:srgbClr val="000000"/>
              </a:solidFill>
              <a:latin typeface="TradeGothic LT Bold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62520" y="2147760"/>
            <a:ext cx="2495520" cy="3570120"/>
            <a:chOff x="5762520" y="2147760"/>
            <a:chExt cx="2495520" cy="3570120"/>
          </a:xfrm>
        </p:grpSpPr>
        <p:sp>
          <p:nvSpPr>
            <p:cNvPr id="208" name=""/>
            <p:cNvSpPr/>
            <p:nvPr/>
          </p:nvSpPr>
          <p:spPr>
            <a:xfrm>
              <a:off x="5762520" y="3644640"/>
              <a:ext cx="249552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adeGothic LT Bold"/>
                </a:rPr>
                <a:t>Frequency Ba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2520" y="2147760"/>
              <a:ext cx="2495520" cy="536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adeGothic LT Bold"/>
                </a:rPr>
                <a:t>Input Mo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62520" y="5181480"/>
              <a:ext cx="2495520" cy="53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adeGothic LT Bold"/>
                </a:rPr>
                <a:t>New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29360" y="2876400"/>
              <a:ext cx="0" cy="614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29360" y="4413240"/>
              <a:ext cx="0" cy="61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997360" y="2533680"/>
            <a:ext cx="228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adeGothic LT Bold"/>
              </a:rPr>
              <a:t>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22:39:24Z</dcterms:created>
  <dc:creator>Eugene Hsu</dc:creator>
  <dc:description/>
  <dc:language>en-US</dc:language>
  <cp:lastModifiedBy>Eugene Hsu</cp:lastModifiedBy>
  <dcterms:modified xsi:type="dcterms:W3CDTF">2005-08-17T17:47:35Z</dcterms:modified>
  <cp:revision>74</cp:revision>
  <dc:subject/>
  <dc:title>Slide 1</dc:title>
</cp:coreProperties>
</file>